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C2B-8B63-47CB-BF84-02E0AB85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122-4E0C-4A23-9028-B23D37BA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39B-84B9-436B-9D4A-EA9CFDD1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1BC-F794-4C75-BA76-D8BED859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3453-75A0-42F7-85F4-6EADCA1E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7743-CC7F-402B-B33B-AA8067A9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8085-DF68-4F69-8321-FE5A2E67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1CC6-522E-493B-93B7-32D1E85E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145E-37B6-4513-9385-855DE85E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A8FF-CFC7-4997-B5D0-313DE718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6FE8-D0F6-4171-BF83-4336DF9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404-E075-4000-8105-A66C5CE0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A686-6271-498B-9D51-F37160F3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325D-AD9A-43C2-BC6E-A65A4236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39D7-53CF-467C-8673-B1FBF3E4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7382-41BB-40A2-844C-189C1F7B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5461-1001-4678-A143-1FA160C1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F90-C556-42BF-9725-DE1534D5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BD7-258E-4E35-BD97-A719C15D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D52-DA53-4FEE-B367-1255CEEA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ACE-229B-4AA9-AD43-51C3E1C4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8AF-9946-4DB6-B209-A5CD1F37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085-5EB3-41F6-ABE6-6C53925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803-EDED-41C4-924B-590EC292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8FFF-E156-4197-9CE6-0D3608FDC84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B121-9B1F-4DBD-AA3C-E755A1F717A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Heimlich Maneuver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y: Steve Broussar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ke each squeeze-thrust strong enough to dislodge a foreign body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9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derstand that your thrusts make the diaphragm move air out of the victim's lungs, creating a kind of artificial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</a:rPr>
              <a:t>cough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1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eep a firm grip on the victim, since he or she can lose consciousness and fall to the ground if the Heimlich maneuver is not effectiv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tep 11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peat the Heimlich maneuver until the foreign body is expelle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Introduction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re’s never a warning before a person gets an object caught in their throat and starts choking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oking is the body’s way of trying to remove a foreign object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ce yourself slightly behind the standing victim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333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ssure the victim that you know the Heimlich maneuver and are going to help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ce your arms around the victim's waist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333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ke a fist with one hand and place your thumb toward the victim, just above his or her belly button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333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6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ab your fist with your other han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3339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liver five upward squeeze-thrusts into the abdomen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3333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38:54Z</dcterms:created>
  <dc:creator>004student</dc:creator>
  <dc:description/>
  <dc:language>en-US</dc:language>
  <cp:lastModifiedBy>004student</cp:lastModifiedBy>
  <dcterms:modified xsi:type="dcterms:W3CDTF">2008-10-31T15:42:55Z</dcterms:modified>
  <cp:revision>2</cp:revision>
  <dc:subject/>
  <dc:title>Heimlich Maneu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